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117942"/>
        <c:axId val="54607178"/>
      </c:barChart>
      <c:catAx>
        <c:axId val="541179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07178"/>
        <c:crosses val="autoZero"/>
        <c:auto val="1"/>
        <c:lblAlgn val="ctr"/>
        <c:lblOffset val="100"/>
        <c:noMultiLvlLbl val="0"/>
      </c:catAx>
      <c:valAx>
        <c:axId val="546071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179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5761-A333-491F-A994-645CEBF7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63AA-F53A-4BAB-B7CA-7668C2F9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A634-734C-4AE9-84DA-24932D74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2BF9-402E-4A15-B8A7-9F8907F4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3837-2220-426F-A5B8-1808FE22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3C27-9E76-4BDC-8D8F-D2033756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C541-B77F-443C-9C39-3B0316AA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EF88-2DC2-4C26-9212-6F15C35D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66C-7687-46E1-A1D4-E5650527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FF60-BFCB-486D-BA07-55260AEB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7C07-6E20-4C8A-91C6-4A8A6FE8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01A4-F344-439F-AD7D-BC317502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94F54-5DC9-434A-B2D3-4BA0AFFD50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