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089670"/>
        <c:axId val="30157704"/>
      </c:barChart>
      <c:catAx>
        <c:axId val="52089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57704"/>
        <c:crosses val="autoZero"/>
        <c:auto val="1"/>
        <c:lblAlgn val="ctr"/>
        <c:lblOffset val="100"/>
        <c:noMultiLvlLbl val="0"/>
      </c:catAx>
      <c:valAx>
        <c:axId val="301577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89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3F08-5792-440D-A7C1-4B001471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17F-3292-4B10-BCB1-6CA5BF05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BB60-27C6-463D-9279-00675420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FE3-8D8E-4023-A9ED-A404AB15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A04B-485A-4185-925A-6B427A9D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CA7D-82F1-4219-BB7E-F1BEA93D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6F0-8538-47AC-86AD-82D39A7A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9F6-1040-496A-AFA2-2D2967FC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B401-A934-4930-B17E-D21F802B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FAF2-E2EB-416E-A20F-A3876376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32A2-E71B-499B-B601-F192A63B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2151-AF9A-44FD-B71D-51EF9305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880EA-81F2-4892-A338-A6DEDFBE06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