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9621719"/>
        <c:axId val="82578569"/>
      </c:barChart>
      <c:catAx>
        <c:axId val="1962171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578569"/>
        <c:crosses val="autoZero"/>
        <c:auto val="1"/>
        <c:lblAlgn val="ctr"/>
        <c:lblOffset val="100"/>
        <c:noMultiLvlLbl val="0"/>
      </c:catAx>
      <c:valAx>
        <c:axId val="8257856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62171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393F-FC94-422D-B0C1-F5FB360DF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D216-EFAC-419F-99E8-EB72A977B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2F13-D9D4-47E9-A791-A6D4BF76B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51B4-A226-4FEA-99BE-840ED1341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8199-198D-4B00-AC85-A9CDD3318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0745-A988-4614-840A-E9F045E91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5AC4-07C3-438A-8F09-D937653CE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12AF-9734-433F-9948-C47CBF694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FD85-62E4-456B-80D6-50C34731C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B5F5-22B4-4EBA-8CF5-A3F27D0C2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70D0-DA87-4199-A4FA-E9C599DEB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6BAC-712D-435F-B7C8-B253D2CDC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D411D0-CC66-4C80-9DC0-B2C46D447A0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