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97150"/>
        <c:axId val="25192117"/>
      </c:barChart>
      <c:catAx>
        <c:axId val="897971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92117"/>
        <c:crosses val="autoZero"/>
        <c:auto val="1"/>
        <c:lblAlgn val="ctr"/>
        <c:lblOffset val="100"/>
        <c:noMultiLvlLbl val="0"/>
      </c:catAx>
      <c:valAx>
        <c:axId val="25192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971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7F1-518A-468D-8ECE-E9AFA499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14B-5314-49C1-91E4-D1C21221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FE3-E150-4BF6-84C1-AD93BD7F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B58-63DA-4C57-8C43-BC958219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02A-05D0-4521-900E-2B7DE280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A91-FA23-40C6-96CF-C0ECDCCD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58F-04A8-41A0-B67F-B1771678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9D4-1D06-441D-9D3F-AEE6BC38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339-1159-4097-BCBF-D0661D66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A4A-2DD2-47DA-B2CB-172711CF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62F-1A7A-4436-9D65-11BDC104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830-1F37-4889-A027-46F16176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8594A-E3A3-42E8-9878-1DBE6D233B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