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19071"/>
        <c:axId val="57799801"/>
      </c:barChart>
      <c:catAx>
        <c:axId val="37019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99801"/>
        <c:crosses val="autoZero"/>
        <c:auto val="1"/>
        <c:lblAlgn val="ctr"/>
        <c:lblOffset val="100"/>
        <c:noMultiLvlLbl val="0"/>
      </c:catAx>
      <c:valAx>
        <c:axId val="57799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19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B5C-0D06-4AAB-B26E-8BC778F2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FCC-BF85-488E-A246-9F3B56F9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EA1-63EB-4138-B672-08F743D4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8EB-C55E-45EA-B495-2423354B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43E-3647-4AA4-8F8A-B81F1B09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19E4-F5A7-4900-8A5A-FF644D3B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056-FD07-4028-9B3D-590B33F0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F25-EA0D-4E17-B42E-E5BFFA0F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CA8-F149-4082-A695-12FEF84B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29F-DC3A-45A9-BD3F-2CA257FD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C0B-CEDC-49AF-987D-B17CE2AE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572-65E5-4056-84B0-519DAF7F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A3401-7403-4A6E-833C-E649DB1857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