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417759"/>
        <c:axId val="70895187"/>
      </c:barChart>
      <c:catAx>
        <c:axId val="814177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95187"/>
        <c:crosses val="autoZero"/>
        <c:auto val="1"/>
        <c:lblAlgn val="ctr"/>
        <c:lblOffset val="100"/>
        <c:noMultiLvlLbl val="0"/>
      </c:catAx>
      <c:valAx>
        <c:axId val="708951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177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1C1E-3D6F-4C99-9C3C-3A630FEE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EA3B-44EC-42E0-AE9A-46B6F85F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9342-B4EC-4065-8DA6-35D2161A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7F1C-A970-4BDA-81C6-320F62BF9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9563-12CE-43CA-9780-97461B1E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237F-9257-4798-B60D-D8DFDCBA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1A2B-8C3D-4557-B881-2E843CF1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3BE9-80C3-4D13-B768-62C82748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DD94-768E-4F7D-A753-14A7E99F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08B3-4FBC-480A-8AFB-568416A0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F18B-13AD-4E28-BD8A-36EE9298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069B-A1A0-4E7B-A7CE-DFB91EF3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D0164-1EB2-42D1-ADB9-B2A5AF0489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