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557602"/>
        <c:axId val="63766761"/>
      </c:barChart>
      <c:catAx>
        <c:axId val="225576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66761"/>
        <c:crosses val="autoZero"/>
        <c:auto val="1"/>
        <c:lblAlgn val="ctr"/>
        <c:lblOffset val="100"/>
        <c:noMultiLvlLbl val="0"/>
      </c:catAx>
      <c:valAx>
        <c:axId val="637667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576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46A8-8A01-4B91-B98A-63A67801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7B1E-E4BE-4416-BB99-F43A79E8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A191-6F88-43A6-81AE-EA0B497C2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187C-6E68-4E5F-8C75-F9953820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8E46-900E-4AF3-B22A-5CE0960D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A0DA-276C-41E7-A564-7FCC9741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9B4C-A3E2-4D89-9137-C74C6A36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5693-DC4D-433C-8621-3E9F7982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0AA0-A061-43C4-A362-201D8C03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483A-A932-42BC-8F8C-52129D4F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2480-F68C-4C91-B4E9-A9821D35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193D-D232-4752-83A9-FCC85647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6F805-6ECE-468C-A9A5-C33C66BF6E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