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35556"/>
        <c:axId val="83576364"/>
      </c:barChart>
      <c:catAx>
        <c:axId val="96355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76364"/>
        <c:crosses val="autoZero"/>
        <c:auto val="1"/>
        <c:lblAlgn val="ctr"/>
        <c:lblOffset val="100"/>
        <c:noMultiLvlLbl val="0"/>
      </c:catAx>
      <c:valAx>
        <c:axId val="835763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55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F228-6276-421D-BEAB-266885E4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1473-D478-40AE-9491-66F9154A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DCCC-5CBD-4DD6-948D-EE582F121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366C-7226-41CF-B88A-9003FB634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CCC1-6FB3-4D0F-A945-9949E72C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BEFF-D21C-4413-B1F7-44B25EED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4A46-C7CC-4EFF-BE04-798120BF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8DFD-FACC-4D8D-96FE-F5C16E8C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85F2-6123-460B-B13B-7C170ACD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4F64-1456-479F-BCCA-951E0C36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8A93-3D1C-4674-97C3-9E900160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4A36-4859-459D-9F90-BD0DC0EF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A4072-3EC7-4C1B-B94D-EFE979C56A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