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78681"/>
        <c:axId val="16841919"/>
      </c:barChart>
      <c:catAx>
        <c:axId val="93678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41919"/>
        <c:crosses val="autoZero"/>
        <c:auto val="1"/>
        <c:lblAlgn val="ctr"/>
        <c:lblOffset val="100"/>
        <c:noMultiLvlLbl val="0"/>
      </c:catAx>
      <c:valAx>
        <c:axId val="16841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78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2DD-04EA-4A19-A176-CE5ABEE2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575-E673-4F9E-BC37-6062653A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FA2-AEAD-4C8F-B3F4-BCDFB653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E84-03AA-4161-A073-0C624A48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066-66CB-495F-AD7B-AEE83D11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9FC-7B27-41DA-ACFA-27FC69E7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695-D751-47F1-AD5B-755140E3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ED7-15A9-47D9-821E-CDD25E6E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309-327B-481F-AE5D-62A3C05E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5B2-5BB9-44EF-982F-E1DA4AE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7DD-A877-49E4-98BC-EAC4B6FD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9F1-8BE7-4AD5-84D5-6D606C19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E907E-573A-4656-BBD2-1A12553644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