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97217"/>
        <c:axId val="50716426"/>
      </c:barChart>
      <c:catAx>
        <c:axId val="66997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16426"/>
        <c:crosses val="autoZero"/>
        <c:auto val="1"/>
        <c:lblAlgn val="ctr"/>
        <c:lblOffset val="100"/>
        <c:noMultiLvlLbl val="0"/>
      </c:catAx>
      <c:valAx>
        <c:axId val="50716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97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A36-298C-4BF5-8E4A-B91F0159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CC8-9346-406E-BF38-7FB80102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0E8-38BA-402B-8FD9-3CC2C21F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CCA-B3B0-4380-8C97-62A36A80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0E6-E72D-44F6-A695-7C437E4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196-D93B-423F-861F-212FFCAE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254-5FE7-4001-AC68-03A62C3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994-833F-48B2-8FFD-C574E51D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39F-A4F6-4F58-92AE-50E1D5F0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9DB-E135-4D9F-B573-17D980C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CAA-0B2E-491C-998B-5AA1098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3BC-7937-4617-A8AA-9F63AE4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D4F34-FA8A-49CA-8AB2-9318225C8D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