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72990"/>
        <c:axId val="12629789"/>
      </c:barChart>
      <c:catAx>
        <c:axId val="92572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29789"/>
        <c:crosses val="autoZero"/>
        <c:auto val="1"/>
        <c:lblAlgn val="ctr"/>
        <c:lblOffset val="100"/>
        <c:noMultiLvlLbl val="0"/>
      </c:catAx>
      <c:valAx>
        <c:axId val="12629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72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43F-0A5C-4E88-9515-7387A472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6F9-2D18-4BDF-9A01-64AD96F9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C86-7D3E-4D76-9B82-998FE2E3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D0C-9081-4D4D-900A-61853D12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865-FB98-44EF-8FA2-2D74EEAC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1B7-097B-4C4F-9AD2-AD95D666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8A6-80DE-42B1-AC9D-C44E1757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B83-5CDC-4CCB-B703-5788A2FC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70B-BA37-429E-B11D-D6C2AE87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92E-671B-4353-AE34-86F92906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C00-E015-4DB0-83CC-437D396F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ECF-68AB-4819-A767-9066F0EB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32A3C-D395-4E73-A49D-2B55B5681F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