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5354"/>
        <c:axId val="45085361"/>
      </c:barChart>
      <c:catAx>
        <c:axId val="37165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85361"/>
        <c:crosses val="autoZero"/>
        <c:auto val="1"/>
        <c:lblAlgn val="ctr"/>
        <c:lblOffset val="100"/>
        <c:noMultiLvlLbl val="0"/>
      </c:catAx>
      <c:valAx>
        <c:axId val="45085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5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48E-E855-469E-BD00-A8FFEDB7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357-E919-4227-A036-BD4C1C62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FF2-9EC9-407B-8F01-483AF62C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773-7B96-4104-8030-A70D5D53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5DF-BFEC-454B-8156-D4BBD048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A22-47E6-46F2-95DB-75AD562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D33-953E-452F-AE5B-DC4471B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59F-ECF0-4EF0-A961-BAC033B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244-6345-47DE-8522-1916382D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6D-0B25-4832-8D3F-90A041B7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4A1-10B7-4A86-B6C6-29F2845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DC3-5B97-48D5-B009-547B86B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C1C2-20EE-4F52-BE86-EB62185000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