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24510"/>
        <c:axId val="64473014"/>
      </c:barChart>
      <c:catAx>
        <c:axId val="22224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73014"/>
        <c:crosses val="autoZero"/>
        <c:auto val="1"/>
        <c:lblAlgn val="ctr"/>
        <c:lblOffset val="100"/>
        <c:noMultiLvlLbl val="0"/>
      </c:catAx>
      <c:valAx>
        <c:axId val="64473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24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827-D03B-448A-B408-A45BDFEC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B8C-8AC3-4531-B264-2BCB3AE1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2A5-B5DC-49C6-A0D5-F2E3479B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FBA-EA4A-4C44-8273-D84F09BC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340-3F4E-465E-8D70-F98CF84F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40F-9635-49B8-A015-67491263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BFA-C9C2-481B-AEE2-472BFCA2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4A5-1762-4107-80FA-1D260AAD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0DB-D9C6-4A78-B6C7-8A326A75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44B-E205-4897-A6F0-DBFAF323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5D4-1040-4EE5-BC9E-AEE84396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DAF-86DA-45DC-9142-77FF647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3FEA0-308E-49FF-98AB-266A55A69F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