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38076"/>
        <c:axId val="37664920"/>
      </c:barChart>
      <c:catAx>
        <c:axId val="91638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64920"/>
        <c:crosses val="autoZero"/>
        <c:auto val="1"/>
        <c:lblAlgn val="ctr"/>
        <c:lblOffset val="100"/>
        <c:noMultiLvlLbl val="0"/>
      </c:catAx>
      <c:valAx>
        <c:axId val="37664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38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7E8-CCDC-4E1D-A33A-98DA32F3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05F-1228-48DC-8FE4-92AC7F92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4FE-A17A-4556-B846-769E53D0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675-46E7-41CC-B8AF-7E7CAD99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377-CF3E-4890-8E86-BA94E5DF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045-BD8B-437D-BBE3-17804D0A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909-6CBF-45CC-8E65-799C335F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B24-BE7B-4ABC-A905-20A38EFF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AFA-909D-4070-B390-84AA8FA9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E6E-2E8E-46BB-8DD3-A0F63239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C30-C79F-4D53-A894-1A6D063D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D69-45F2-4DA6-BECD-5FAB9A09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BBB59-3D58-4D02-8689-02D8251E87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