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66872"/>
        <c:axId val="29283369"/>
      </c:barChart>
      <c:catAx>
        <c:axId val="25366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3369"/>
        <c:crosses val="autoZero"/>
        <c:auto val="1"/>
        <c:lblAlgn val="ctr"/>
        <c:lblOffset val="100"/>
        <c:noMultiLvlLbl val="0"/>
      </c:catAx>
      <c:valAx>
        <c:axId val="29283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66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68C-7E2C-4BF6-B8CE-D6D3264A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372-5BE2-4D17-985B-BA17AAD5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E275-BA88-461B-B648-CFE015EA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58F-0B42-4ACF-A474-FD04BEE1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2EC-95CC-4630-8F46-C280723D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A7D-86BC-4D45-A1B3-B5B69AF3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476-CC3C-4898-A66C-337D5FB0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497-3D5F-4BEA-AE36-543B1DC8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27E9-0F99-4124-8A0C-4B76AF3C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828-D743-44A3-847A-B0BE3B59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005-E96A-41B4-B112-058A4F1E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F0C-6D72-4FFA-B3EE-33CDE722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5B119-B032-452F-A630-1E295CD95C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