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74699"/>
        <c:axId val="42603113"/>
      </c:barChart>
      <c:catAx>
        <c:axId val="96574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03113"/>
        <c:crosses val="autoZero"/>
        <c:auto val="1"/>
        <c:lblAlgn val="ctr"/>
        <c:lblOffset val="100"/>
        <c:noMultiLvlLbl val="0"/>
      </c:catAx>
      <c:valAx>
        <c:axId val="42603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74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AEB-8AF6-4979-8C67-037C1756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CAB-4A08-44FB-B760-BFA7557A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327-0EFE-44A0-AC7A-669B036B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887-66A0-4067-B3A0-D74CB6F0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0AE-1FE7-4C34-948C-E4D6FFCF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170-09A7-4107-90C5-5193FFD5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2A2-5D90-475C-8BF6-2266A7AE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10B-2F52-4ABD-9949-42D2658F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154-F360-47C3-8F39-D6684391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98D-4B9B-4C9B-9074-326FFF03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CF1-594A-45C0-BA39-A5E8D88B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D6F-796D-4EA8-B9E0-7BAF4326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EE878-2409-409E-9301-FC373E39C9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