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348342"/>
        <c:axId val="78375370"/>
      </c:barChart>
      <c:catAx>
        <c:axId val="633483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75370"/>
        <c:crosses val="autoZero"/>
        <c:auto val="1"/>
        <c:lblAlgn val="ctr"/>
        <c:lblOffset val="100"/>
        <c:noMultiLvlLbl val="0"/>
      </c:catAx>
      <c:valAx>
        <c:axId val="783753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483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11E8-6532-4CDE-AED9-037D1192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F5ED-F8A3-4D8F-89DE-8AC632F0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8377-43D9-4184-9AAF-5C3ACC7E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474D-CA45-4614-B1F5-02D6B03B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C3AE-EA2F-48D9-BF06-4B8B9304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DFA7-27EB-4B14-BB02-CA59129C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8B5-CB97-4E1B-B1C1-5D28EC0C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91D2-11B5-40A2-BB23-F2FF0697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BBA-AB36-4742-87BE-99AD5A02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6AE9-5FB8-470C-A4D0-27CB31B4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1340-D48E-490C-BE50-04AAD276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B70-1312-436A-8B89-C85DC544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B8BA7-7DF9-4C6B-8B70-6052E8EA3D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