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71703"/>
        <c:axId val="14662287"/>
      </c:barChart>
      <c:catAx>
        <c:axId val="24771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62287"/>
        <c:crosses val="autoZero"/>
        <c:auto val="1"/>
        <c:lblAlgn val="ctr"/>
        <c:lblOffset val="100"/>
        <c:noMultiLvlLbl val="0"/>
      </c:catAx>
      <c:valAx>
        <c:axId val="14662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71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492-1B15-43C5-AF53-0C3E5C53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07C-5FCA-42FA-B530-417D2EC2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1DE1-A023-4AB1-9C93-5C3A26B0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94A-FB31-4878-A0D3-9F8C184B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B43-224B-4D76-84F8-6CBF078C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545-DC1D-49D2-9B37-E57E4339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EB7-041D-451F-8266-4EE8FB4A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A75-E315-43ED-AFC1-A59E82BA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78EB-6B4C-4F5F-941E-A5AA0EAB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9F2-80A2-48F0-A0AB-6C34D730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BB2-F004-4D61-AE80-E99AF3C9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DD5-98B0-4494-9741-685CF83E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4743B-F200-432F-9818-09FB690BD4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