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8828"/>
        <c:axId val="63873208"/>
      </c:barChart>
      <c:catAx>
        <c:axId val="12558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3208"/>
        <c:crosses val="autoZero"/>
        <c:auto val="1"/>
        <c:lblAlgn val="ctr"/>
        <c:lblOffset val="100"/>
        <c:noMultiLvlLbl val="0"/>
      </c:catAx>
      <c:valAx>
        <c:axId val="63873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8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094-66F2-4BC7-84A8-7CF99BDF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04A-0180-49CB-833F-647A9523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920-2374-4C4F-88C1-0006714F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903-89E6-48FD-9967-66D8A834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C96-CF27-492E-96E5-661E4FF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E7D-F1F1-4D05-93D4-DD4CC31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5B5-93A4-4FE0-B987-3FDA0AF3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A2-8364-4338-AA9B-EF3590A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B33-D75C-4FED-93EA-2A4BA83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499-31AA-48FF-A045-56F27B2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E97-F6E6-4A47-BAAE-447A0E85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2BD-7D34-4D6C-9488-5F412242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AB46-A374-4E66-AB7D-E1E5678329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