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20072"/>
        <c:axId val="87421231"/>
      </c:barChart>
      <c:catAx>
        <c:axId val="23320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21231"/>
        <c:crosses val="autoZero"/>
        <c:auto val="1"/>
        <c:lblAlgn val="ctr"/>
        <c:lblOffset val="100"/>
        <c:noMultiLvlLbl val="0"/>
      </c:catAx>
      <c:valAx>
        <c:axId val="87421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20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9C0-49DA-49C1-ABFF-D2616456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36E-3194-4270-AD2D-686B2C73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CE0-796F-4014-BDCC-10E15AA3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8E1-41CA-4F76-A005-7C2A3EBE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876-23A6-4AF9-B968-B8E9AB9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434-F1C6-440E-A4FB-52772FE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278-3640-4C99-B83E-D6CB52A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B64-0673-460E-8786-B2F51435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1BC-3EA1-4D85-9475-34A867D8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ED4-6B1F-4B10-82F5-392A1B8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1AF-CF2E-4459-9271-1DA1BAA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F73-CBF5-47D4-B508-0F47DAC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40D34-3BF9-4C8E-91F3-ECA11BE70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