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54136"/>
        <c:axId val="3822642"/>
      </c:barChart>
      <c:catAx>
        <c:axId val="34654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2642"/>
        <c:crosses val="autoZero"/>
        <c:auto val="1"/>
        <c:lblAlgn val="ctr"/>
        <c:lblOffset val="100"/>
        <c:noMultiLvlLbl val="0"/>
      </c:catAx>
      <c:valAx>
        <c:axId val="3822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54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EDC-95BE-48DC-888E-979CFAD1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153-9E46-47DF-96D5-0A2F1DF3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5FB-4236-4B09-88FF-FC37DC8B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6B2-769D-47C8-BD6E-4F71387C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276-1203-4A00-97B8-9D8DE8C0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809-E350-4104-854A-2A8B8CAE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95F-0F0D-4CB2-9CD2-DA127705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999-1744-4FC3-B903-A6BFC73C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A74-7892-4412-A17C-EAA1894D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49F-3D6E-490B-A3C2-6DA7693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EA9-03E6-4AED-BFA4-738F230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FE0-2045-451A-9E00-7ABD741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A4D93-A5AB-403D-8934-0393034D2D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