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332797"/>
        <c:axId val="32988412"/>
      </c:barChart>
      <c:catAx>
        <c:axId val="853327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988412"/>
        <c:crosses val="autoZero"/>
        <c:auto val="1"/>
        <c:lblAlgn val="ctr"/>
        <c:lblOffset val="100"/>
        <c:noMultiLvlLbl val="0"/>
      </c:catAx>
      <c:valAx>
        <c:axId val="329884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3327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16C1-1860-4A65-A73C-7C152D41E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8BD5-A4D8-43A9-868D-48A604BF5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E56B-97D4-41BC-B709-D18ABC696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CA31-693F-434B-88E7-FB5DED9B6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43FE-7A12-4354-99E2-D116EAF8A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94D8-3527-4CCB-B42E-FE61E9A54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D1CC-B940-4C7C-B51E-34500701C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D06A-7DAF-4C2E-AA10-5BC8CE63A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0C52-B13D-4DBA-9781-2D0A0B423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76B9-B950-4A4C-94BD-805D6A850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BECD-CD34-480E-80E1-7FD738D50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1756-5FF4-4C76-A83C-0DC64E4AE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64ABD2-56E8-4CFC-A562-A75488DFF35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