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84665"/>
        <c:axId val="47602665"/>
      </c:barChart>
      <c:catAx>
        <c:axId val="25284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02665"/>
        <c:crosses val="autoZero"/>
        <c:auto val="1"/>
        <c:lblAlgn val="ctr"/>
        <c:lblOffset val="100"/>
        <c:noMultiLvlLbl val="0"/>
      </c:catAx>
      <c:valAx>
        <c:axId val="476026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4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6E78-29F6-4C83-8FFA-8EA50597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651-3833-49F0-ABEE-2A7EBA76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368-F7BF-41B3-AD3D-09B55E72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54C-ACCF-46E7-88FA-6848BE3B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1FC-934F-429F-97D6-C15CED0F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862-04A8-42B0-9F4D-F3B09D9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DA8-9A7C-487D-A35C-2308FDC1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C93-F7A0-4604-9376-EC228135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667-FF71-4BDB-818D-717D6BC9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517-8CEC-4B50-925F-2BEDE8C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93C-847E-43F0-866F-ABADAB09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F1F-D382-4203-A1C1-A7A998C0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A59E1-3C4A-4B3C-9D9D-F32124647C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