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09208"/>
        <c:axId val="1328400"/>
      </c:barChart>
      <c:catAx>
        <c:axId val="91409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8400"/>
        <c:crosses val="autoZero"/>
        <c:auto val="1"/>
        <c:lblAlgn val="ctr"/>
        <c:lblOffset val="100"/>
        <c:noMultiLvlLbl val="0"/>
      </c:catAx>
      <c:valAx>
        <c:axId val="1328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09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500-F0A5-4355-A237-039D0E1A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DE6-9017-47CC-B995-288ED1A2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4D4-1BFF-454F-8C22-4215C30A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45F-745B-407B-AA64-DB96AB2B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BA5-F972-4FDD-A244-13974919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1BF-7492-4834-8704-19986FE3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BFA-9C77-4E86-977C-7899A729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0AB-1844-4140-B64C-8A1E685C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BD5-4476-4828-9927-C5D87686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1C5-03AD-49F2-8BF1-BEA5B07D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540-5392-40BD-8FBE-1002B9D5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489-1D81-45F8-B60C-C52CE62D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E3155-6086-4FDC-8D05-3A2B649079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