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40042"/>
        <c:axId val="78165441"/>
      </c:barChart>
      <c:catAx>
        <c:axId val="39740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65441"/>
        <c:crosses val="autoZero"/>
        <c:auto val="1"/>
        <c:lblAlgn val="ctr"/>
        <c:lblOffset val="100"/>
        <c:noMultiLvlLbl val="0"/>
      </c:catAx>
      <c:valAx>
        <c:axId val="78165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40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AF9-FE70-40D2-9FC3-32553ECF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4CC-9724-4029-8382-933ED11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DB3-E88A-481D-AAC6-0DCF2FBC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7E4-7BE3-4872-B515-664E66A3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121-F368-49AF-AD63-5E29E62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E1B-21C1-4BA7-806C-7075EEE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4BB-356B-4F34-9025-51AA7896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9C9-9163-4AC3-82D8-A8F1BC2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36D-2599-47F5-A246-EFF659E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30B-4DCF-4404-AE33-0BDD59F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C1F-329C-494B-B9C1-2974BCE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C62-0B49-448E-9B53-D4875C4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5995-508C-466F-93D4-793C20B6B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