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53578"/>
        <c:axId val="88873526"/>
      </c:barChart>
      <c:catAx>
        <c:axId val="25653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73526"/>
        <c:crosses val="autoZero"/>
        <c:auto val="1"/>
        <c:lblAlgn val="ctr"/>
        <c:lblOffset val="100"/>
        <c:noMultiLvlLbl val="0"/>
      </c:catAx>
      <c:valAx>
        <c:axId val="88873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3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8F6-F439-4840-B00D-C4B492B0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E0B-A1C3-459E-B140-0D10EEAB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AB7-A113-40F7-B967-962DF1A8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D2C-AB1D-4D58-9B66-1EC42F40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3B9-EEA4-4C3D-9CA1-B80E8167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9F5-06BA-4685-BFF8-C1EF8A3D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D00-D19A-4230-BD66-63B2733E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1EC-2FF0-428A-B9E3-6B08CE3D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912-D827-4895-B04C-5D647ED0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9DE-B340-4A8C-B29C-2B085C1D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2EF-0AF9-4852-95E4-57D2B40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6B9-ABD1-421E-AF5B-9D3C407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8E4A4-12DA-4A66-84BE-23F43EC56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