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34524"/>
        <c:axId val="94976812"/>
      </c:barChart>
      <c:catAx>
        <c:axId val="61434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76812"/>
        <c:crosses val="autoZero"/>
        <c:auto val="1"/>
        <c:lblAlgn val="ctr"/>
        <c:lblOffset val="100"/>
        <c:noMultiLvlLbl val="0"/>
      </c:catAx>
      <c:valAx>
        <c:axId val="94976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4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446-B48C-4350-B13D-FAA3B1F3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EFB-BF85-4F04-8581-6611C90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402-82EE-455B-98AB-9D506984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5CD-DB6C-4D9F-AE93-20E94AA3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D7D-0571-44C9-B933-32AFBE8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0D3-6A1B-43DC-95EB-44DB439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6AF-4AFE-4D11-88B6-665BF0C9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CB8-4273-4348-AD40-A1EAAAB9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E0C-5A9D-4BE1-8303-DF5D2180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CF3-7A72-434C-9CAB-696666A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38A-5DE9-4C1B-ADAC-6B54E80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ABD-B53A-4DA9-A0E6-D954728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A420-E91B-4FEF-9071-442D76E71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