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99707"/>
        <c:axId val="2779234"/>
      </c:barChart>
      <c:catAx>
        <c:axId val="74099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9234"/>
        <c:crosses val="autoZero"/>
        <c:auto val="1"/>
        <c:lblAlgn val="ctr"/>
        <c:lblOffset val="100"/>
        <c:noMultiLvlLbl val="0"/>
      </c:catAx>
      <c:valAx>
        <c:axId val="2779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9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E27-3BF2-4C79-99CE-2182CC92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DA9-637E-49BB-A891-90058B3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F99-53E5-4F3A-9369-BD45931F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713-65FA-410A-A260-A584491A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9FA-4437-439D-859B-AB5E8D9B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4C3-2E7C-4B5A-8F20-A5CEA50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FA9-C4A1-45B2-A5B2-529A92F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A86-2330-4524-A0C7-D34EDCC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BA4-A9F5-45DB-8B4E-594AF941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D60-6CBC-4472-9B3A-8F4D422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8FE-F93A-483D-A655-6C482B7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B55-38F1-46C3-994E-6F91F48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5909-39B1-46A2-A360-F5AF5F1B15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