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78748"/>
        <c:axId val="30252663"/>
      </c:barChart>
      <c:catAx>
        <c:axId val="10378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252663"/>
        <c:crosses val="autoZero"/>
        <c:auto val="1"/>
        <c:lblAlgn val="ctr"/>
        <c:lblOffset val="100"/>
        <c:noMultiLvlLbl val="0"/>
      </c:catAx>
      <c:valAx>
        <c:axId val="30252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78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80E-A80A-429E-BE7B-E498D920D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95A-A2FC-4DDC-AA90-6B7EF3E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0FA-091B-42A6-94B4-561E73C4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4EDE-CED7-46DE-99E2-FD958E7D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204E-3632-4887-9770-08DCEF2C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A9CD-A155-4D6D-A2E5-962275DA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5026-3C39-42D9-B49B-727D1375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3050-8259-4752-9015-FF4105D1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BDAD-D0E3-451C-A36C-5953516B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DBD3-00FE-4DA0-8C3A-228E4913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0721-E569-46F5-BE4E-B5A5053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F73B-F71B-42A7-8C67-ECD349E3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08BA7-F1CA-4ED6-98EF-272CA5B716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