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40484"/>
        <c:axId val="86005287"/>
      </c:barChart>
      <c:catAx>
        <c:axId val="31640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05287"/>
        <c:crosses val="autoZero"/>
        <c:auto val="1"/>
        <c:lblAlgn val="ctr"/>
        <c:lblOffset val="100"/>
        <c:noMultiLvlLbl val="0"/>
      </c:catAx>
      <c:valAx>
        <c:axId val="86005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40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76D-E64D-41EA-934D-46AE8303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31B-AD44-4A30-AF25-F74C2A91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878-C302-4025-8F6A-BFBFD366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CF0-2383-40ED-A174-40B03EFB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8A0-83D7-4250-813E-D3702722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1A9-80D8-4803-A066-9DA76B74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D4F-315C-43F1-B1AC-CC7FC88E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307-0653-480C-8A14-54269972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557-28D0-4927-9191-AA70FFD2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DEC-CFA0-4C7D-B0F2-BACC002E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6EB-13C5-4199-8D75-A80C3727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05E-86B5-4141-B1A2-2A60D013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8ED35-9F44-46C5-88E0-19EDA194AE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