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83097"/>
        <c:axId val="94176479"/>
      </c:barChart>
      <c:catAx>
        <c:axId val="35683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76479"/>
        <c:crosses val="autoZero"/>
        <c:auto val="1"/>
        <c:lblAlgn val="ctr"/>
        <c:lblOffset val="100"/>
        <c:noMultiLvlLbl val="0"/>
      </c:catAx>
      <c:valAx>
        <c:axId val="94176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83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699-4095-4820-A335-1E091AF4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6FA-ADFB-451F-9AF3-52463498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F5D-1B7A-4394-AC00-D805B5DB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B45-CB89-4AAD-9C23-D317299D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4F56-C8E7-4596-B591-19566E1F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091-EE88-4EF4-B511-5BB5405B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B06-CAF9-412D-9F31-086155BF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E6F-6D2B-447C-A3F5-946F410D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E1D-5C4D-4BEF-8DF7-DAF1B754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B1C-C820-455A-98DB-54D46FC5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6F7-B01F-4F17-AB6F-D51BE9F4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1D1D-924F-4B8C-8163-20687E94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66301-4D16-47BA-BB35-8CF2801463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