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95469"/>
        <c:axId val="82364446"/>
      </c:barChart>
      <c:catAx>
        <c:axId val="50595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64446"/>
        <c:crosses val="autoZero"/>
        <c:auto val="1"/>
        <c:lblAlgn val="ctr"/>
        <c:lblOffset val="100"/>
        <c:noMultiLvlLbl val="0"/>
      </c:catAx>
      <c:valAx>
        <c:axId val="82364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95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F4A-0E28-47A0-BCA5-07971E13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87F-22F6-4559-A8BD-B9E3B094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5E8-130C-4141-ABF3-B88DC110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A29-0547-4B62-902A-928DE34D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E30-8622-4060-A42D-47E13D90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05A-86E4-447E-B021-E2B8CCF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6D7-35C7-4497-AFB7-111BC775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93A-1615-4B5A-86AE-4E54446F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387-FDD9-4576-9E38-63E7CEBC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293-7C20-4281-B103-5B936C4A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781-0962-479B-827F-A07CC66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8D6-D29A-4A45-B6D6-DC700AE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57F13-1410-4C65-8155-E46DD8840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