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24222"/>
        <c:axId val="98042862"/>
      </c:barChart>
      <c:catAx>
        <c:axId val="82624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42862"/>
        <c:crosses val="autoZero"/>
        <c:auto val="1"/>
        <c:lblAlgn val="ctr"/>
        <c:lblOffset val="100"/>
        <c:noMultiLvlLbl val="0"/>
      </c:catAx>
      <c:valAx>
        <c:axId val="98042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24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C79-51B0-4E63-9D6E-E7842297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117-FC59-4487-8854-2644E189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9B7-A0EF-4D86-8B88-A3C46997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00A-962C-462F-B2E7-D68E9EF6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BAA-8CFB-4C3A-996E-09DE861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677-79BA-445A-9286-FCC08645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EC0-6621-4E69-98BE-22E0A6DA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63B-CFE8-499B-B25B-78E3A9F9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852-EBEC-4DA7-8DC8-EF5E2AB0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620-5CBF-4253-BF79-2C70153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609-709C-43A2-A97E-01C6AF1F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25F-C40D-4771-9EAB-F79251DF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4D6F0-FF23-4C76-A030-A1154CDA66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