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96910"/>
        <c:axId val="76393642"/>
      </c:barChart>
      <c:catAx>
        <c:axId val="34596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93642"/>
        <c:crosses val="autoZero"/>
        <c:auto val="1"/>
        <c:lblAlgn val="ctr"/>
        <c:lblOffset val="100"/>
        <c:noMultiLvlLbl val="0"/>
      </c:catAx>
      <c:valAx>
        <c:axId val="76393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6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2AC-730C-4B71-A435-0900BFF4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8F6-2A2F-419C-94E7-CFADC3D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0BB-E325-4C2C-B7B1-6354C86A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3B1-1535-4C84-BD17-8B7CA007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46B-966F-47EE-A57B-CD39091D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33C-B684-441A-B47A-B27CBB52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1CB-032B-4DBE-8A61-11DC33D5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D19-BC5E-4695-90F7-51F9E029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E49-AB13-4640-8957-C63A4CBC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722-2AD0-4911-A2B8-9B0CE5C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D01-A7F2-4E98-B49C-B3D305B9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8B0-1733-492B-85BC-FBCEC9A8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77285-6BCE-46EF-8312-C053A8CAEE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