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035130"/>
        <c:axId val="69399191"/>
      </c:barChart>
      <c:catAx>
        <c:axId val="86035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99191"/>
        <c:crosses val="autoZero"/>
        <c:auto val="1"/>
        <c:lblAlgn val="ctr"/>
        <c:lblOffset val="100"/>
        <c:noMultiLvlLbl val="0"/>
      </c:catAx>
      <c:valAx>
        <c:axId val="693991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35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E2A3-AA7E-4749-87E9-CF0DA56D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12D5-BBB7-48A8-B840-6D8C49F5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7207-06CA-4253-A708-F3E6BC0C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9C5C-6B73-4483-97F0-2AF1BA4A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1C89-C0AA-4854-82DF-04705861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4EE7-7495-45D7-99A2-B83BA552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B22D-A51F-4E0D-8F05-15BD5110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8A92-E09A-440F-ABE1-5DE97C44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FA1D-DA8B-47F7-BD7E-D54BB7B6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E969-C936-426C-8FCC-EE3F1104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E104-DB5F-41A7-8FE3-3A958861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EB17-B176-43ED-90DD-4FC9B717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77867-1163-4B01-BD59-9E57A39BBF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