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78320"/>
        <c:axId val="8384389"/>
      </c:barChart>
      <c:catAx>
        <c:axId val="44278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389"/>
        <c:crosses val="autoZero"/>
        <c:auto val="1"/>
        <c:lblAlgn val="ctr"/>
        <c:lblOffset val="100"/>
        <c:noMultiLvlLbl val="0"/>
      </c:catAx>
      <c:valAx>
        <c:axId val="838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78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294-0E0D-40B5-838E-80CF6E16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880-FC35-4BFB-B61F-434BFEC6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DE9-C15A-469F-AB48-60A68F62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317-61E9-40F0-9A9D-C07F2B5B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5AB-8DAA-4760-AFAF-A4FC039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D71-2206-4F97-8ACB-D778E0D6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A4D-2237-4183-9909-2AAA088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D7A-5557-4239-AE3E-C67569A5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E2A-974F-41A8-B95A-6312ABDD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582-CF73-4136-853F-C47E8D1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8D3-F685-470A-850E-D919B27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BDD-A800-46E3-B891-D0E1B4E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766C-C972-451F-9799-16CAD243C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