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12306"/>
        <c:axId val="6930923"/>
      </c:barChart>
      <c:catAx>
        <c:axId val="86712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923"/>
        <c:crosses val="autoZero"/>
        <c:auto val="1"/>
        <c:lblAlgn val="ctr"/>
        <c:lblOffset val="100"/>
        <c:noMultiLvlLbl val="0"/>
      </c:catAx>
      <c:valAx>
        <c:axId val="6930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2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52A-C6F0-47B6-A788-F65B9A96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02B-9C8F-474B-811E-C8F3978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833-98D1-45EF-8A48-E5B4B931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E9C-1FC9-4B8D-A93C-07E4B1D4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B46-7695-4437-9B45-4938316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8C9-1EB5-4DB7-B7D9-C3B78F5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C4C-6C2C-474A-92BD-E37CD299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E64-B7E7-4F00-BDA1-A548BEF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B06-0FA0-4D55-828B-540A0CE3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740-5FF0-4126-A39A-3339295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0DB-CF4A-43B0-A966-47AE552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5E4-656F-44B6-8C48-8219ACDC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E34AE-49F2-4FC3-A1B9-378476284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