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74941"/>
        <c:axId val="11496726"/>
      </c:barChart>
      <c:catAx>
        <c:axId val="83074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96726"/>
        <c:crosses val="autoZero"/>
        <c:auto val="1"/>
        <c:lblAlgn val="ctr"/>
        <c:lblOffset val="100"/>
        <c:noMultiLvlLbl val="0"/>
      </c:catAx>
      <c:valAx>
        <c:axId val="11496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4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B5A-A8E6-427C-A701-950948AB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39C-68C4-4F57-8EB3-D5E0BA3C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0DA-3AE2-416E-AE96-828D81E9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1F4-BCB9-4190-8EC0-215418C5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A36-8D02-4E02-A980-1E73EEDF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39A-A588-4A52-BA89-476EC3E7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372-DBD2-49C4-8757-5D70C3E1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92A-DE7B-4F8D-9590-E7BBF95F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0AC-969A-4881-BEA0-476546BE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68B-75F6-4FA7-A293-FC239F78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7EC-C4F2-4155-8C5C-BF8899EA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EEE-D2C8-4FFE-8C2B-922B5DE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9E993-0237-49CE-9A6D-85124F6E20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