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53446"/>
        <c:axId val="6720151"/>
      </c:barChart>
      <c:catAx>
        <c:axId val="12853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0151"/>
        <c:crosses val="autoZero"/>
        <c:auto val="1"/>
        <c:lblAlgn val="ctr"/>
        <c:lblOffset val="100"/>
        <c:noMultiLvlLbl val="0"/>
      </c:catAx>
      <c:valAx>
        <c:axId val="6720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53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402-53EE-488B-8BD6-ABED2643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104-82B0-45D2-AB86-924349E8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5DB-292B-4C93-BD10-4D34C866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6CE-A836-4A3D-B9D6-34A4FD5C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B86-0A6D-433D-99F0-3F22DBAE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982-DD0E-4ABF-9259-2276369F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40C-D706-4ADB-BD2E-04D8A440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19F-6D0F-4661-B15F-559D1DD7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C97-AC0D-4965-83A1-CA24BF93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A54-85CC-4F81-B6E8-F0977148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B2F-6242-4236-A72D-863FBABC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F0D-A470-44AA-B174-58E0033F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A9CDD-F92E-4983-8299-850516A9F9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