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94102"/>
        <c:axId val="99263479"/>
      </c:barChart>
      <c:catAx>
        <c:axId val="48494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63479"/>
        <c:crosses val="autoZero"/>
        <c:auto val="1"/>
        <c:lblAlgn val="ctr"/>
        <c:lblOffset val="100"/>
        <c:noMultiLvlLbl val="0"/>
      </c:catAx>
      <c:valAx>
        <c:axId val="99263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94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348-9807-4A6D-B54B-01644037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93D-34A8-4B33-9787-A3320F71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14D-6A87-46F3-87AD-8DB52FA3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605-12D1-489D-B91F-2A5A4A0A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F7F-2AA4-465E-A529-F729CD7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2DD-BD0E-45DE-90F2-D810E5BA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C3E-FCD1-40C0-96E5-33372F23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EC4-CEF0-4684-9299-56AEA934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923-AFEF-4EFF-B15F-9442A7EC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B27-C8E5-4344-9B0C-5468C680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7A8-12D6-4559-B361-19215486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0E2-459A-41E6-9665-C359B049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13304-1178-411F-894E-AE5DECB8CF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