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57330"/>
        <c:axId val="23753190"/>
      </c:barChart>
      <c:catAx>
        <c:axId val="68357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53190"/>
        <c:crosses val="autoZero"/>
        <c:auto val="1"/>
        <c:lblAlgn val="ctr"/>
        <c:lblOffset val="100"/>
        <c:noMultiLvlLbl val="0"/>
      </c:catAx>
      <c:valAx>
        <c:axId val="23753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57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438-5DDE-4311-BEDE-293646C9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929-0C52-4EA8-B7C4-5B08D942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72C-3349-4D97-BC4E-41CF85CE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810-DD9B-4A6F-8AD6-9A4A7575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FF8-A3D4-4334-9D97-EFD4C49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B1C-79D9-4551-9037-F2D71913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8D5-C243-407C-A97C-035A18AD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CA9-49A8-4A75-8A07-21E4BD55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3C6-C5C4-4445-A9FE-AA239825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F6A-7407-487B-A112-6F70FC15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C52-F1AD-4B31-9899-2AAB6668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01A-45C9-47E6-AC4C-903954B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D444D-06FE-4168-B6AA-63E13DD3D6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