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00172"/>
        <c:axId val="43144514"/>
      </c:barChart>
      <c:catAx>
        <c:axId val="15100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4514"/>
        <c:crosses val="autoZero"/>
        <c:auto val="1"/>
        <c:lblAlgn val="ctr"/>
        <c:lblOffset val="100"/>
        <c:noMultiLvlLbl val="0"/>
      </c:catAx>
      <c:valAx>
        <c:axId val="43144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0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C2B-C1EF-4118-A231-D2155122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456-25F5-4965-915C-7DEA7B93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D59-B9A0-4615-8042-1811435B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DE1-F6A2-445A-903A-ADE6365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ABF-EA76-4C6D-AC86-A44A682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5CB-927F-47ED-8939-BB41158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56F-BD1A-451A-AFA4-0F969FD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53C-059E-4000-8761-E5D368A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4B-E259-4052-A13F-E274C76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669-410D-42A2-B712-D6DA6A1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4D9-BD12-48D4-9EC3-15A6615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586-BD1B-4C7A-895D-8E5B9DD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8426A-44EC-450D-BFFA-7E74DAEEF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