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18267"/>
        <c:axId val="23145940"/>
      </c:barChart>
      <c:catAx>
        <c:axId val="65218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45940"/>
        <c:crosses val="autoZero"/>
        <c:auto val="1"/>
        <c:lblAlgn val="ctr"/>
        <c:lblOffset val="100"/>
        <c:noMultiLvlLbl val="0"/>
      </c:catAx>
      <c:valAx>
        <c:axId val="23145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18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49C-18B0-4F75-8A37-FF1ED391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F72-E5FC-4E49-A323-2DA238F3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8A6-190C-40E0-8EBF-058648C0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1F3-62AF-4DD7-AFCF-2E83B859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BF0-E8F7-4376-A689-6FFDCF9E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DBD-49DA-4596-A599-87FABE52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8EB-ED93-40B3-A2DD-D83DA1C1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ABB-8DC5-4801-8CE4-52F953D5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A90-3104-4BC6-B276-ED848E1E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09AA-9051-4FFD-9FE3-1C9FCF38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66FD-7EA1-4A4D-8464-2C4BE8FD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CB1-B447-456A-9451-CFD72D42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8ADE82-BF92-4D72-B316-AA44FAE94C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