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162364"/>
        <c:axId val="5945288"/>
      </c:barChart>
      <c:catAx>
        <c:axId val="88162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5288"/>
        <c:crosses val="autoZero"/>
        <c:auto val="1"/>
        <c:lblAlgn val="ctr"/>
        <c:lblOffset val="100"/>
        <c:noMultiLvlLbl val="0"/>
      </c:catAx>
      <c:valAx>
        <c:axId val="5945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162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D2E5-FE8A-4998-8970-B7915B96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FF8B-ECCC-45E3-8D04-55B7E87C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BD3-6E58-4E00-B307-CBD65A4A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E160-1631-4E94-B49B-4E57E3BE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639B-07A1-4064-9BB6-7C07F7EC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1C6-1153-4D5A-88A8-4A84CAB4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2085-6AA8-44FA-B5B9-D866CE4E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6428-0951-45E3-A541-F3BCF9F1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94E0-28D3-4177-8647-D9CBC648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9F6-3CEA-496D-9002-F5EB0CC2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5038-A295-4FD1-9BEC-EB6DB429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3D13-D4AA-46FD-A133-36F43349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C1405-40F9-4565-8701-965E979CA2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