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8448"/>
        <c:axId val="60413612"/>
      </c:barChart>
      <c:catAx>
        <c:axId val="7568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13612"/>
        <c:crosses val="autoZero"/>
        <c:auto val="1"/>
        <c:lblAlgn val="ctr"/>
        <c:lblOffset val="100"/>
        <c:noMultiLvlLbl val="0"/>
      </c:catAx>
      <c:valAx>
        <c:axId val="60413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8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2B2-BE4E-4010-90DE-7E36EBC7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09C-1AAA-46CF-95CB-58881E5D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9D0-701E-4858-A935-05311E7F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DAD-6237-4EF6-A78F-00DFA6D4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FFA-CC61-4082-BB8A-BA00D148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913-82C1-4217-9FE7-54BD3358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EC3-6BD8-4D1D-9746-309A988C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D22-3976-4F4B-B0DC-350ACA49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5E6-B2DE-4D9D-A715-51FFD191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0C6-0B6E-4BD6-BA26-6F87198C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A15-687A-452A-8B19-4F19BC95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F8B-C294-4CD6-A786-3313FFD5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4AA36-54C1-4E57-9686-6594C73A2C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