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91784"/>
        <c:axId val="63319929"/>
      </c:barChart>
      <c:catAx>
        <c:axId val="782917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19929"/>
        <c:crosses val="autoZero"/>
        <c:auto val="1"/>
        <c:lblAlgn val="ctr"/>
        <c:lblOffset val="100"/>
        <c:noMultiLvlLbl val="0"/>
      </c:catAx>
      <c:valAx>
        <c:axId val="63319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917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657B-4CB9-43C0-8142-BFB89C73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686-B7F4-4207-BDAC-02100F10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0D19-66B4-44B5-A422-A978D47A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9C3-124C-4A49-9F3F-E3B1663A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0D19-FBD7-48D6-80DB-9FD7EAE2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97E9-E8EC-4D2D-9B9A-3236E0CD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BA5-1273-41A8-8914-763E0A52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3EE-D3DD-4936-908B-A5E5CCEE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66E9-4088-41AF-970E-EF7D9343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DD30-1B50-4C69-8818-4158ABAF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0C47-D6E4-4C4F-803E-40868DB0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EF58-618D-4B36-B11D-0FE55F84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CCC49-70EA-4233-8862-6F2802EB24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