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86216"/>
        <c:axId val="9410105"/>
      </c:barChart>
      <c:catAx>
        <c:axId val="68586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0105"/>
        <c:crosses val="autoZero"/>
        <c:auto val="1"/>
        <c:lblAlgn val="ctr"/>
        <c:lblOffset val="100"/>
        <c:noMultiLvlLbl val="0"/>
      </c:catAx>
      <c:valAx>
        <c:axId val="9410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6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BE9-9025-4E60-A531-79C97946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215-3021-467D-99E9-1A8560E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FEF-8B59-467A-AE92-5BA7CDEF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B70-8FE9-42D2-BA28-28A7C71C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77B-41CA-483B-86D7-000230B1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D80-D054-4281-9864-2B629496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695-7269-44EB-9AD6-B5A28EDA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3BDB-9C84-4BC4-A519-D520B5E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653-FC9D-4140-8DA7-1D9E1EBD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5D3-36A3-4DDB-9ECA-1CC46B55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035-04EB-4436-97FB-D237199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844-3E60-44E3-87C5-383E0D35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279D3-A13A-40AB-9741-A41409E4B0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