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44953"/>
        <c:axId val="33129974"/>
      </c:barChart>
      <c:catAx>
        <c:axId val="71449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29974"/>
        <c:crosses val="autoZero"/>
        <c:auto val="1"/>
        <c:lblAlgn val="ctr"/>
        <c:lblOffset val="100"/>
        <c:noMultiLvlLbl val="0"/>
      </c:catAx>
      <c:valAx>
        <c:axId val="331299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49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2BDA-B0F4-4199-B3A6-7267C4E2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35AD-F1C0-4EDF-B838-398C5133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69C7-9655-4F64-AFE6-C03E33F7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1BC2-1E20-497A-BB7E-C606A5F17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9C91-78EB-4F17-A4AD-87B819E3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9E71-8CF5-4855-8D7B-45823839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38A5-87E9-43FA-8F05-024BDE56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62F7-E812-480C-8094-204BC0C6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5E8F-221D-4D70-8A43-D5EA92C0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24CA-EDBF-42B7-BB5E-D469639F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BE59-4AC0-4DC7-B3A9-31DED9A6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7EC0-4923-4F94-A145-98A278B7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CF4ED-6AB6-4705-BB7E-3FB337CE75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