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01639"/>
        <c:axId val="90579809"/>
      </c:barChart>
      <c:catAx>
        <c:axId val="18901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79809"/>
        <c:crosses val="autoZero"/>
        <c:auto val="1"/>
        <c:lblAlgn val="ctr"/>
        <c:lblOffset val="100"/>
        <c:noMultiLvlLbl val="0"/>
      </c:catAx>
      <c:valAx>
        <c:axId val="90579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1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9E1-0E3C-464B-A63D-C6E4C496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B3F-7C9D-47D0-B36F-0B538E2E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7BF-4312-4B1A-B01D-B30B0703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C3A-A079-4D55-9C21-5EEF543D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B47-09A3-47DF-B7E1-2CA37F6B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80B-E41B-4325-84C9-C18DBEB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E99-3AE7-4253-9B15-843DD2FC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8C4-D234-40AF-9F62-4B8C1693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B96-9731-4B59-B3FB-B5F54565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278-44EC-4ADB-88F0-C9C2F0C9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BF-B5EC-4D32-865A-C974A0D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0D3-36C8-4006-BB6F-9553962F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65FF2-94F8-40D8-B23C-CC941C01C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