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39306"/>
        <c:axId val="29798400"/>
      </c:barChart>
      <c:catAx>
        <c:axId val="21639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98400"/>
        <c:crosses val="autoZero"/>
        <c:auto val="1"/>
        <c:lblAlgn val="ctr"/>
        <c:lblOffset val="100"/>
        <c:noMultiLvlLbl val="0"/>
      </c:catAx>
      <c:valAx>
        <c:axId val="29798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9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68E-45AA-4DF2-AC0F-D6D83F1D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40A4-6203-456D-BA94-CE21903E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C58-B693-46DE-8181-A7A3A2DD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1DB-3142-4E6E-AE71-35940D9D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6F6-C290-4DEC-B1E6-693F51C2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487-BDDC-4B6A-9758-163DA5B3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C53-CE21-4654-A2C3-03470AB8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249-3452-440D-B4F4-8DABA1B9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FB3F-5EA7-4626-A468-CE3CF36E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A953-9D2D-4A7C-B124-E19B5EC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998-C3D9-4F33-B175-CEA76E34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97B5-4915-4006-BEAD-E4CDD29C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28892-6EFF-41E9-8329-240B2927CA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